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874-E91C-4C9F-9D00-1DB17AD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64D-7FFF-4C54-8C67-BD503B2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8DB-0EA8-4D10-8B0D-FB8DC304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4AC-BC58-4257-9695-B2DBEA0D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431-769A-47D1-A1C3-721C9C2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287-6FB3-4B43-867F-288BBF6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33-60FB-4F47-B04E-6B0AB8D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2ED-A17F-4F79-AE76-4E3DD3B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E52-C787-4EB0-8606-EDC0C9FD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926-7A01-4BE5-908B-8F2F86C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A1F-BCEC-417E-BB90-34328C77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3BF-8F5F-4D27-BEB8-96B2707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CE73-3A33-43A2-8F1D-3BF15BBB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haas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haas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1066680"/>
            <a:ext cx="6019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ez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632640" y="5105520"/>
            <a:ext cx="1625400" cy="1191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sidy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02160"/>
            <a:ext cx="4572000" cy="10598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ny Act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26708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Invented by: Eduard Haas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aas"/>
          <p:cNvPicPr/>
          <p:nvPr/>
        </p:nvPicPr>
        <p:blipFill>
          <a:blip r:embed="rId1"/>
          <a:stretch/>
        </p:blipFill>
        <p:spPr>
          <a:xfrm>
            <a:off x="0" y="403200"/>
            <a:ext cx="7315200" cy="3125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505320"/>
            <a:ext cx="4191120" cy="1059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uard Ha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aas"/>
          <p:cNvPicPr/>
          <p:nvPr/>
        </p:nvPicPr>
        <p:blipFill>
          <a:blip r:embed="rId3"/>
          <a:stretch/>
        </p:blipFill>
        <p:spPr>
          <a:xfrm>
            <a:off x="5029200" y="3657600"/>
            <a:ext cx="290988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952880"/>
            <a:ext cx="2286000" cy="133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pen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762120"/>
            <a:ext cx="1752480" cy="2562840"/>
          </a:xfrm>
          <a:prstGeom prst="rect">
            <a:avLst/>
          </a:prstGeom>
          <a:gradFill rotWithShape="0">
            <a:gsLst>
              <a:gs pos="0">
                <a:srgbClr val="f27ad3"/>
              </a:gs>
              <a:gs pos="50000">
                <a:srgbClr val="0066ff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duard Haas III invented the Pez candy and dispenser. He wanted it to appeal to adults, but Pez ended up as a kids can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d515a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v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e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t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o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e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Pez candy and the original Pez dispenser was invented in 19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ez is short for the German word peppermint which is “pfeffermin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s of a few years ago,2  billion Pez candies are consumed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 1955, new flavors were created such as lemon, orange, and strawbe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lso in 1955,the idea was created to put cartoon heads on top of the Pez dispenser to appeal to k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ecause Haas was against smoking, he thought the peppermints would appeal to people who were trying to quit.( So they would have the peppermints to put in their mouth inst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gradFill rotWithShape="0">
            <a:gsLst>
              <a:gs pos="0">
                <a:srgbClr val="f27ad3"/>
              </a:gs>
              <a:gs pos="50000">
                <a:srgbClr val="bbe0e3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8420"/>
                </a:solidFill>
                <a:latin typeface="Cooper Black"/>
              </a:rPr>
              <a:t>Inventor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: </a:t>
            </a:r>
            <a:r>
              <a:rPr b="0" lang="en-US" sz="4400" spc="-1" strike="noStrike">
                <a:solidFill>
                  <a:srgbClr val="6235d3"/>
                </a:solidFill>
                <a:latin typeface="Cooper Black"/>
              </a:rPr>
              <a:t>Eduard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46adec"/>
                </a:solidFill>
                <a:latin typeface="Cooper Black"/>
              </a:rPr>
              <a:t>Haa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a1e111"/>
                </a:solidFill>
                <a:latin typeface="Cooper Black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born near Vienna,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born in 1897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duard Haas III was part of an enterprising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is grandfather (Eduard Haas I) was a doctor and created a new type of baking powder that was used to make cakes turn out li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s father briefly attended medical school, but instead of continuing in the medical field, he opened and ran a successful grocery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6T16:42:09Z</dcterms:modified>
  <cp:revision>10</cp:revision>
  <dc:subject/>
  <dc:title>Slide 1</dc:title>
</cp:coreProperties>
</file>